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67067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6D37A-8C93-44A7-965E-BEEF31D04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56BF0-ED6B-48EE-AF20-8119A5752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2E83B-D4C4-4907-9333-E16C0D615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F6522-0E0E-49AE-B212-48DB31C7D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B1D12-037E-42BF-B481-FD3D7F1A9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8272B-E225-44DD-B485-CBF0C994E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4C250-28FC-4CB9-9B62-7EFADCA51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62549-E1ED-4E26-835C-EA439B959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01CB1-D0CE-4BF3-8ADE-894D67596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DF6DA-E3BF-4BF8-AFA9-86F9E05C0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93608-F193-4577-B340-979718E27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26BAB-3157-437F-8183-0B11231B6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1099C-4121-4171-9E23-87E54F9F9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6FD9D-E5B8-445C-9613-69887EDA7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0C072-18C3-43DD-882B-1A52389A9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9BD62-FF15-427F-B855-38D7067B1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8F83C-A7CE-421D-BA12-E5A9B484C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B7982-F75D-46F5-BFE6-8D0876DFE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37062-2892-413A-94AD-4A2FEACFD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E1338-1712-4C06-94F6-7B4D2AB72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1281F-F5FA-46E7-9484-ECB994D25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8673F-7151-4B2D-AD4A-0182CABA3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7A6BB-CC14-4F2B-9154-E65946468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7BB11-B697-4F81-BF6B-A51A86403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440D8-433F-4BBB-A393-B27A50180AB3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8E39E-79F6-4110-8EBB-C4C51DAD3F09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VRSTE RAZISKAV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1907640" y="4797360"/>
            <a:ext cx="672804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Blaž Mesec in Liljana Rihter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0" y="103320"/>
            <a:ext cx="914400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Verdana"/>
              </a:rPr>
              <a:t>VRSTE RAZISKAV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0" y="981000"/>
            <a:ext cx="91440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PROCES SPOZNAVANJA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395280" y="1989000"/>
            <a:ext cx="2755800" cy="642600"/>
          </a:xfrm>
          <a:prstGeom prst="rect">
            <a:avLst/>
          </a:prstGeom>
          <a:noFill/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NEJASNE PREDSTAVE O STVARNOSTI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771640" y="3141720"/>
            <a:ext cx="2952720" cy="1191240"/>
          </a:xfrm>
          <a:prstGeom prst="rect">
            <a:avLst/>
          </a:prstGeom>
          <a:noFill/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JASEN IN NATANČEN OPIS POJAVA/ZNAČILNOSTI/DOGODKA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148360" y="5013360"/>
            <a:ext cx="3600360" cy="1465560"/>
          </a:xfrm>
          <a:prstGeom prst="rect">
            <a:avLst/>
          </a:prstGeom>
          <a:noFill/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KONČNA POJASNITEV VZROKOV IN POGOJEV ZA NASTANEK POJAVA / NAPOVED NJEGOVEGA POJAVLJANJA V PRIHODNOSTI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276720" y="2492280"/>
            <a:ext cx="863640" cy="432000"/>
          </a:xfrm>
          <a:prstGeom prst="line">
            <a:avLst/>
          </a:prstGeom>
          <a:ln w="936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084720" y="4221000"/>
            <a:ext cx="935280" cy="576360"/>
          </a:xfrm>
          <a:prstGeom prst="line">
            <a:avLst/>
          </a:prstGeom>
          <a:ln w="936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Verdana"/>
              </a:rPr>
              <a:t>VRSTE RAZISKAV</a:t>
            </a: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0" y="836640"/>
            <a:ext cx="9144000" cy="60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sl-SI" sz="2800" spc="-1" strike="noStrike">
                <a:solidFill>
                  <a:srgbClr val="006699"/>
                </a:solidFill>
                <a:latin typeface="Verdana"/>
              </a:rPr>
              <a:t>RAZISKAVE GLEDE NA STOPNJO V PROCESU SPOZNAVANJA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6699"/>
                </a:solidFill>
                <a:latin typeface="Verdana"/>
              </a:rPr>
              <a:t>EKSPLORATIVNE ALI POIZVEDOVALNE RAZISKAVE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sl-SI" sz="28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sl-SI" sz="2800" spc="-1" strike="noStrike">
                <a:solidFill>
                  <a:srgbClr val="006699"/>
                </a:solidFill>
                <a:latin typeface="Verdana"/>
              </a:rPr>
              <a:t>-  </a:t>
            </a:r>
            <a:r>
              <a:rPr b="0" lang="sl-SI" sz="2800" spc="-1" strike="noStrike">
                <a:solidFill>
                  <a:srgbClr val="cc99ff"/>
                </a:solidFill>
                <a:latin typeface="Verdana"/>
              </a:rPr>
              <a:t>uvod</a:t>
            </a:r>
            <a:r>
              <a:rPr b="0" lang="sl-SI" sz="2800" spc="-1" strike="noStrike">
                <a:solidFill>
                  <a:srgbClr val="006699"/>
                </a:solidFill>
                <a:latin typeface="Verdana"/>
              </a:rPr>
              <a:t> v spoznavanje področja/problematike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sl-SI" sz="2800" spc="-1" strike="noStrike">
                <a:solidFill>
                  <a:srgbClr val="006699"/>
                </a:solidFill>
                <a:latin typeface="Verdana"/>
              </a:rPr>
              <a:t>- </a:t>
            </a:r>
            <a:r>
              <a:rPr b="0" lang="sl-SI" sz="2800" spc="-1" strike="noStrike">
                <a:solidFill>
                  <a:srgbClr val="cc99ff"/>
                </a:solidFill>
                <a:latin typeface="Verdana"/>
              </a:rPr>
              <a:t>namen:</a:t>
            </a:r>
            <a:r>
              <a:rPr b="0" lang="sl-SI" sz="2800" spc="-1" strike="noStrike">
                <a:solidFill>
                  <a:srgbClr val="006699"/>
                </a:solidFill>
                <a:latin typeface="Verdana"/>
              </a:rPr>
              <a:t> formulacija problema, hipoteze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sl-SI" sz="2800" spc="-1" strike="noStrike">
                <a:solidFill>
                  <a:srgbClr val="006699"/>
                </a:solidFill>
                <a:latin typeface="Verdana"/>
              </a:rPr>
              <a:t>- </a:t>
            </a:r>
            <a:r>
              <a:rPr b="0" lang="sl-SI" sz="2800" spc="-1" strike="noStrike">
                <a:solidFill>
                  <a:srgbClr val="cc99ff"/>
                </a:solidFill>
                <a:latin typeface="Verdana"/>
              </a:rPr>
              <a:t>uporabljamo:</a:t>
            </a:r>
            <a:r>
              <a:rPr b="0" lang="sl-SI" sz="2800" spc="-1" strike="noStrike">
                <a:solidFill>
                  <a:srgbClr val="006699"/>
                </a:solidFill>
                <a:latin typeface="Verdana"/>
              </a:rPr>
              <a:t> manj sistematične postopke zbiranja, analize podatkov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sl-SI" sz="2800" spc="-1" strike="noStrike">
                <a:solidFill>
                  <a:srgbClr val="006699"/>
                </a:solidFill>
                <a:latin typeface="Verdana"/>
              </a:rPr>
              <a:t>*Študije primerov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sl-SI" sz="2800" spc="-1" strike="noStrike">
                <a:solidFill>
                  <a:srgbClr val="006699"/>
                </a:solidFill>
                <a:latin typeface="Verdana"/>
              </a:rPr>
              <a:t>*Nekontrolirani poskusi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sl-SI" sz="2800" spc="-1" strike="noStrike">
                <a:solidFill>
                  <a:srgbClr val="006699"/>
                </a:solidFill>
                <a:latin typeface="Verdana"/>
              </a:rPr>
              <a:t>*Eksplorativno deskriptivne raziskave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Verdana"/>
              </a:rPr>
              <a:t>VRSTE RAZISKAV</a:t>
            </a: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0" y="836640"/>
            <a:ext cx="9144000" cy="60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sl-SI" sz="2800" spc="-1" strike="noStrike">
                <a:solidFill>
                  <a:srgbClr val="006699"/>
                </a:solidFill>
                <a:latin typeface="Verdana"/>
              </a:rPr>
              <a:t>RAZISKAVE GLEDE NA STOPNJO V PROCESU SPOZNAVANJA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6699"/>
                </a:solidFill>
                <a:latin typeface="Verdana"/>
              </a:rPr>
              <a:t>2. DESKRIPTIVNE ALI OPISNE RAZISKAVE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sl-SI" sz="28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sl-SI" sz="2800" spc="-1" strike="noStrike">
                <a:solidFill>
                  <a:srgbClr val="006699"/>
                </a:solidFill>
                <a:latin typeface="Verdana"/>
              </a:rPr>
              <a:t>-  </a:t>
            </a:r>
            <a:r>
              <a:rPr b="0" lang="sl-SI" sz="2800" spc="-1" strike="noStrike">
                <a:solidFill>
                  <a:srgbClr val="cc99ff"/>
                </a:solidFill>
                <a:latin typeface="Verdana"/>
              </a:rPr>
              <a:t>sledi</a:t>
            </a:r>
            <a:r>
              <a:rPr b="0" lang="sl-SI" sz="2800" spc="-1" strike="noStrike">
                <a:solidFill>
                  <a:srgbClr val="006699"/>
                </a:solidFill>
                <a:latin typeface="Verdana"/>
              </a:rPr>
              <a:t> eksplorativni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sl-SI" sz="2800" spc="-1" strike="noStrike">
                <a:solidFill>
                  <a:srgbClr val="006699"/>
                </a:solidFill>
                <a:latin typeface="Verdana"/>
              </a:rPr>
              <a:t>- </a:t>
            </a:r>
            <a:r>
              <a:rPr b="0" lang="sl-SI" sz="2800" spc="-1" strike="noStrike">
                <a:solidFill>
                  <a:srgbClr val="cc99ff"/>
                </a:solidFill>
                <a:latin typeface="Verdana"/>
              </a:rPr>
              <a:t>namen:</a:t>
            </a:r>
            <a:r>
              <a:rPr b="0" lang="sl-SI" sz="2800" spc="-1" strike="noStrike">
                <a:solidFill>
                  <a:srgbClr val="006699"/>
                </a:solidFill>
                <a:latin typeface="Verdana"/>
              </a:rPr>
              <a:t> količinsko opredeliti osnovne značilnosti pojava / ugotoviti obstoj zveze med dvema ali več pojavi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sl-SI" sz="2800" spc="-1" strike="noStrike">
                <a:solidFill>
                  <a:srgbClr val="006699"/>
                </a:solidFill>
                <a:latin typeface="Verdana"/>
              </a:rPr>
              <a:t>- vedeti: katere značilnosti nas zanimajo; opredeliti: izraze, ki jih uporabljamo; formulirati: hipoteze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sl-SI" sz="2800" spc="-1" strike="noStrike">
                <a:solidFill>
                  <a:srgbClr val="006699"/>
                </a:solidFill>
                <a:latin typeface="Verdana"/>
              </a:rPr>
              <a:t>- </a:t>
            </a:r>
            <a:r>
              <a:rPr b="0" lang="sl-SI" sz="2800" spc="-1" strike="noStrike">
                <a:solidFill>
                  <a:srgbClr val="cc99ff"/>
                </a:solidFill>
                <a:latin typeface="Verdana"/>
              </a:rPr>
              <a:t>uporabljamo:</a:t>
            </a:r>
            <a:r>
              <a:rPr b="0" lang="sl-SI" sz="2800" spc="-1" strike="noStrike">
                <a:solidFill>
                  <a:srgbClr val="006699"/>
                </a:solidFill>
                <a:latin typeface="Verdana"/>
              </a:rPr>
              <a:t> standardizirane postopke zbiranja podatkov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sl-SI" sz="2800" spc="-1" strike="noStrike">
                <a:solidFill>
                  <a:srgbClr val="006699"/>
                </a:solidFill>
                <a:latin typeface="Verdana"/>
              </a:rPr>
              <a:t>*Kvantitativni opis populacije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sl-SI" sz="2800" spc="-1" strike="noStrike">
                <a:solidFill>
                  <a:srgbClr val="006699"/>
                </a:solidFill>
                <a:latin typeface="Verdana"/>
              </a:rPr>
              <a:t>*Opisi skupnostnih projektov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sl-SI" sz="2800" spc="-1" strike="noStrike">
                <a:solidFill>
                  <a:srgbClr val="006699"/>
                </a:solidFill>
                <a:latin typeface="Verdana"/>
              </a:rPr>
              <a:t>*Korelacijske raziskave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Verdana"/>
              </a:rPr>
              <a:t>VRSTE RAZISKAV</a:t>
            </a: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0" y="836640"/>
            <a:ext cx="9144000" cy="60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RAZISKAVE GLEDE NA STOPNJO V PROCESU SPOZNAVANJA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3. EKSPLANATIVNE ALI POJASNJEVALNE RAZISKAVE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- </a:t>
            </a:r>
            <a:r>
              <a:rPr b="0" lang="en-US" sz="2800" spc="-1" strike="noStrike">
                <a:solidFill>
                  <a:srgbClr val="cc99ff"/>
                </a:solidFill>
                <a:latin typeface="Verdana"/>
              </a:rPr>
              <a:t>namen: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pojasniti nastanek in razvoj pojavov in lastnosti, medsebojne odvisnosti, vplive in vzročne povezanosti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- moramo: poznati vse pomembne dejavnike, povezane s pojavom, ki ga pojasnjujemo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- </a:t>
            </a:r>
            <a:r>
              <a:rPr b="0" lang="en-US" sz="2800" spc="-1" strike="noStrike">
                <a:solidFill>
                  <a:srgbClr val="cc99ff"/>
                </a:solidFill>
                <a:latin typeface="Verdana"/>
              </a:rPr>
              <a:t>uporabljamo: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izdelane, logično premišljene obrazce (načrte); pravila vzorčenja in druge postopke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Verdana"/>
              </a:rPr>
              <a:t>VRSTE RAZISKAV</a:t>
            </a: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0" y="836640"/>
            <a:ext cx="9144000" cy="60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DRUGE VRSTE RAZISKAV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GLEDE NA ODNOS DO NEPOSREDNEGA IZKUSTVENEGA GRADIVA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- TEORETIČNE RAZISKAVE: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- ne zbiramo novega gradiva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- odkrivamo zveze med dosedanjimi spoznanji z 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logičnim preverjanjem in kritiko spoznanj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- EMPIRIČNE RAZISKAVE: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- zbiramo novo, neposredno izkustveno gradivo 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- gradivo uporabimo za preverjanje hipotez in 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znanstveno dokazovanje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Verdana"/>
              </a:rPr>
              <a:t>VRSTE RAZISKAV</a:t>
            </a: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0" y="836640"/>
            <a:ext cx="9144000" cy="60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DRUGE VRSTE RAZISKAV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2.   GLEDE NA ODNOS DO PRAKTIČNEGA DELOVANJA OZ. UPORABNOST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- TEMELJNE RAZISKAVE: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- raziskovanje osnovnih teoretičnih vprašanj neke vede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- se ne ozira na neposredno uporabnost znanj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- v SD: proučevanje procesov pomoči kot osnovnih </a:t>
            </a: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družbenih procesov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- UPORABNE RAZISKAVE: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- za neposredne potrebe prakse</a:t>
            </a: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- v SD: neposredno uporabna spoznanja o strategijah, </a:t>
            </a: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metodah in tehnikah SD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- RAZVOJNE RAZISKAVE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- neposredno raziskovalno spremljamo praktično delo, da bi </a:t>
            </a: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uvedli nove pristope v prakso</a:t>
            </a: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Verdana"/>
              </a:rPr>
              <a:t>VRSTE RAZISKAV</a:t>
            </a: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0" y="836640"/>
            <a:ext cx="9144000" cy="60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DRUGE VRSTE RAZISKAV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3.  GLEDE NA VRSTO PODATKOV, KI JIH ZBIRAMO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- KVANTITATIVNE RAZISKAVE: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- zbiramo številčne podatke o pojavih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- KVALITATIVNE RAZISKAVE: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- zberemo besedne opise, ki se nanašajo na pojav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8T12:13:44Z</dcterms:created>
  <dc:creator>Liljana Rihter</dc:creator>
  <dc:description/>
  <dc:language>en-US</dc:language>
  <cp:lastModifiedBy>Liljana Rihter</cp:lastModifiedBy>
  <dcterms:modified xsi:type="dcterms:W3CDTF">2008-10-21T13:22:21Z</dcterms:modified>
  <cp:revision>13</cp:revision>
  <dc:subject/>
  <dc:title>Diapozitiv 1</dc:title>
</cp:coreProperties>
</file>